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BE37-0D91-4C64-AE28-1CD6EBC6D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4D75-C452-4211-A6F3-F154F07A24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面我们来看一下多题多卷这部分的内容。“多题多卷”模式即在同一考场内使用多套题目不同的试卷，试卷类型则通过试题册背面的条形码来区分，考试时有考生将条形码粘贴至答题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上的相应位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试卷类型与座位号无关，发到考生手中也是随机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这一变化，考务工作也将相应作出一些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F92C-27A6-48B2-B2F9-958CBABDCC1B}" type="slidenum">
              <a:rPr b="1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53D1-0EB1-4FE3-B1CD-B4EA9A6A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2877-57EC-498D-906F-F0DBB391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DB0A-8525-4EE3-A590-0E8D4DCA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6278-62CE-4CC9-A985-6EA5ECBC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7738-ABDB-4821-A73C-7A8BDFBD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E09E-8C2D-483A-9734-37F50537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7319-AB63-41F8-BE9C-ED79A148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FB22-7D0B-492D-BD33-08F539D0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DB6F-662F-43C4-807D-3D6C6303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ED54-A0CA-4D76-AB33-70C274EE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79DF-B818-4975-B544-70C7C83E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123-9A38-487B-9138-9EE0DBCD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8D34-6DB9-4988-8888-D24B1903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078C-9CDC-43E7-B660-F2C5C783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7E12-7B39-403E-B235-D8E4203C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09E2-9BE3-47A5-AE71-837500B4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56DA-AEAB-4502-B5E9-DFBBBCC8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5B2AA-7FAC-4EC9-A0C8-5677B609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06BB4-41C3-40DF-B907-0B08DA20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2E766-4230-472E-9511-8F017C60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AC619-882E-410F-9252-1616596E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43D1E-7493-4311-A6EC-FBAF8E55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F34C-90CB-4EE6-A11F-9E57B92A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51B1D-BD49-4170-9B0C-3E148B8B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F8A64-DF89-4549-B6EA-D0779190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138CC-D841-4F0C-B053-B2A8BD14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A7E18-92C5-4FCC-931A-0570BFF8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0BC7B-19D7-4A2F-9B4E-A4BE1EDC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2C605-0D60-46A4-A3F5-675D1D41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F71E9-B73A-4D4C-BB1B-DE801016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8B8EC-AB1A-4A5C-BE9C-3417E27C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8605F-B566-4E13-A3DC-59C59284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D4BE2-782A-4436-A9A9-57E6A62D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D0CD-1C42-4BEA-8D45-8547D484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7BF5C-C8E2-4F7C-944F-A8C7F718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A913A-1983-41E0-B531-C46745EA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6896C-2262-4E1B-8B62-1B2D6866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1D2D8-10AA-48E5-98E5-7219C06C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CF21B-E4EE-4732-B68E-4B0E798D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EC966-17B0-4704-9E43-EFBA8AFF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F8956-166A-464D-AB1F-3A08E7C5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B78E2-B9C1-4EA6-9771-C3B7A80E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32FB8-8184-423F-826A-3E8AA4C0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C58C2-E9AA-4591-A268-7BC3422D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7A0-9855-46C6-B0A1-AD549543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35D58-CA70-428A-A313-7E2610D0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8524B-E642-44B1-AD49-D06842E2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1EB88-7DB7-4E86-8485-55069F3A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4F3CA-173D-40E9-8DCE-54940F65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76B1E-F2BE-4AD6-AF7F-4D6F287D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0DE25-0615-48C3-BAF0-D081A5D3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B90BF-B450-4FD3-B888-E7742680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76265-77BF-43DF-8938-32FC457C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BEFC0-A937-40D2-AD3F-4EB9D24A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C8E94-7D84-4D0C-BE76-3AFB1C0B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D1D0-6466-4205-B874-02D0CE3A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2C863-FCD9-4285-A969-6CB672DD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AB789-05D9-4903-94A4-02A13E35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16EA0-8D41-495F-8148-8193F7E4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42B30-F319-48B7-A6C4-D8228C63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B71E3-5DEA-466C-8280-FB94C9F9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8A894-EEA9-4C20-B179-AB63BFA7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B5867-F426-4C81-BD01-B4137219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FA735-39F1-46E5-B90A-8583B67B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095CE-E7F8-4454-A34E-33FB7D8E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31FCD-2113-47F4-B8B4-C13E63DE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56AA-6178-41EB-95DD-51D6D679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8EA00-8258-41C4-B794-2044720C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AC910-197D-484C-8E03-F70E0818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2176F-416B-4997-977E-5153E6F6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7F33-9A77-42BD-8158-BD9A53A3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88C5-474D-4CCB-B333-BF6A85A4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BF32-557D-46DD-91F5-B929AF69FD4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e447"/>
            </a:gs>
            <a:gs pos="100000">
              <a:srgbClr val="4c78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5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293f0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B820-8E73-4122-A504-1380CAA98A14}" type="slidenum">
              <a:rPr b="0" lang="en-US" sz="2800" spc="-1" strike="noStrike">
                <a:solidFill>
                  <a:srgbClr val="293f06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02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03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9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5D16-4151-4C07-945F-3864247AE24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e447"/>
            </a:gs>
            <a:gs pos="100000">
              <a:srgbClr val="4c78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157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293f0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FECD-57C9-49AC-A965-D43B829C13C0}" type="slidenum">
              <a:rPr b="0" lang="en-US" sz="2800" spc="-1" strike="noStrike">
                <a:solidFill>
                  <a:srgbClr val="293f06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e447"/>
            </a:gs>
            <a:gs pos="100000">
              <a:srgbClr val="4c78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20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3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4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5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293f0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2B60-31B7-46E1-9DB3-C55861088122}" type="slidenum">
              <a:rPr b="0" lang="en-US" sz="2800" spc="-1" strike="noStrike">
                <a:solidFill>
                  <a:srgbClr val="293f06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e447"/>
            </a:gs>
            <a:gs pos="100000">
              <a:srgbClr val="4c78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253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6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7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8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293f0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3141-8899-43A4-8FA0-2044A166CC35}" type="slidenum">
              <a:rPr b="0" lang="en-US" sz="2800" spc="-1" strike="noStrike">
                <a:solidFill>
                  <a:srgbClr val="293f06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900" spc="-1" strike="noStrike">
                <a:solidFill>
                  <a:srgbClr val="c00000"/>
                </a:solidFill>
                <a:latin typeface="黑体"/>
                <a:ea typeface="黑体"/>
              </a:rPr>
              <a:t>全国大学英语四、六级考试监考、巡考人员培训</a:t>
            </a:r>
            <a:endParaRPr b="0" lang="en-US" sz="4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19120" y="1341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entury Gothic"/>
              </a:rPr>
              <a:t>（一）领取试卷</a:t>
            </a:r>
            <a:endParaRPr b="0" lang="en-US" sz="32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entury Gothic"/>
              </a:rPr>
              <a:t>（二）贴桌贴（右上角）和门贴</a:t>
            </a:r>
            <a:endParaRPr b="0" lang="en-US" sz="32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entury Gothic"/>
              </a:rPr>
              <a:t>（三）板书</a:t>
            </a:r>
            <a:endParaRPr b="0" lang="en-US" sz="32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533160" y="533520"/>
            <a:ext cx="6554520" cy="54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上午黑板要求书写：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考点：南方医科大学    学校代码：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44045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校区代码：本部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0       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顺德校区代码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、考试名称和级别（四级）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、考试流程：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9:00-11:25 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10:10   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收答题卡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11:25   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收试题册及答题卡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负责各楼层的巡考员互相对时间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971280" y="476280"/>
            <a:ext cx="655452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entury Gothic"/>
              </a:rPr>
              <a:t>下午黑板要求书写：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entury Gothic"/>
              </a:rPr>
              <a:t>考点：南方医科大学    学校代码：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44045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entury Gothic"/>
              </a:rPr>
              <a:t>校区代码：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0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Century Gothic"/>
              </a:rPr>
              <a:t>顺德校区代码）：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entury Gothic"/>
              </a:rPr>
              <a:t>、考试名称和级别（六级）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entury Gothic"/>
              </a:rPr>
              <a:t>、考试流程：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entury Gothic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15:00-17:25 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16:10   </a:t>
            </a:r>
            <a:r>
              <a:rPr b="1" lang="zh-CN" sz="2000" spc="-1" strike="noStrike">
                <a:solidFill>
                  <a:srgbClr val="000000"/>
                </a:solidFill>
                <a:latin typeface="Century Gothic"/>
              </a:rPr>
              <a:t>收答题卡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17:20   </a:t>
            </a:r>
            <a:r>
              <a:rPr b="1" lang="zh-CN" sz="2000" spc="-1" strike="noStrike">
                <a:solidFill>
                  <a:srgbClr val="000000"/>
                </a:solidFill>
                <a:latin typeface="Century Gothic"/>
              </a:rPr>
              <a:t>收试题册及答题卡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entury Gothic"/>
              </a:rPr>
              <a:t>负责各楼层的巡考员互相对时间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>
              <a:lnSpc>
                <a:spcPct val="125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（四）强调：听力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lnSpc>
                <a:spcPct val="125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、注意听力的播放时间。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lnSpc>
                <a:spcPct val="125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CET4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10:00-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CET6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16:00-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lnSpc>
                <a:spcPct val="125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CET4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CET6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听力时间为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分钟。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lnSpc>
                <a:spcPct val="125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、播放听力的老师请在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08:45-09:00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播放试听听力， 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14:45-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各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15:00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播放试听听力。各教室监考老师提醒同学进行试听。（调频频道为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67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，如果考生觉得不清楚，可以使用耳机上的</a:t>
            </a:r>
            <a:r>
              <a:rPr b="1" lang="zh-CN" sz="20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加</a:t>
            </a:r>
            <a:r>
              <a:rPr b="1" lang="zh-CN" sz="2000" spc="-1" strike="noStrike">
                <a:solidFill>
                  <a:srgbClr val="000000"/>
                </a:solidFill>
                <a:latin typeface="Century Gothic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减</a:t>
            </a:r>
            <a:r>
              <a:rPr b="1" lang="zh-CN" sz="2000" spc="-1" strike="noStrike">
                <a:solidFill>
                  <a:srgbClr val="000000"/>
                </a:solidFill>
                <a:latin typeface="Century Gothic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号微调一下就可以了）。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lnSpc>
                <a:spcPct val="125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监考员提醒考生考试期间不允许上厕所，在考试期间如要上厕所考生不能继续回到考场，上厕所的考生由巡考员带到考务办公室（校本部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406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教室、顺德校区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栋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101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教室）休息，直到考试结束后方能离开考务办公室。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lnSpc>
                <a:spcPct val="125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CET-4-1-1"/>
          <p:cNvPicPr/>
          <p:nvPr/>
        </p:nvPicPr>
        <p:blipFill>
          <a:blip r:embed="rId1"/>
          <a:stretch/>
        </p:blipFill>
        <p:spPr>
          <a:xfrm>
            <a:off x="3357720" y="-100080"/>
            <a:ext cx="4743360" cy="67438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2"/>
          <p:cNvSpPr/>
          <p:nvPr/>
        </p:nvSpPr>
        <p:spPr>
          <a:xfrm>
            <a:off x="324000" y="189000"/>
            <a:ext cx="7777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9e257"/>
                </a:solidFill>
                <a:latin typeface="Tahoma"/>
                <a:ea typeface="黑体"/>
              </a:rPr>
              <a:t>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内容占位符 2"/>
          <p:cNvSpPr/>
          <p:nvPr/>
        </p:nvSpPr>
        <p:spPr>
          <a:xfrm>
            <a:off x="0" y="260280"/>
            <a:ext cx="22748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293f06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华文中宋"/>
                <a:ea typeface="华文中宋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华文中宋"/>
                <a:ea typeface="华文中宋"/>
              </a:rPr>
              <a:t>试题册背面内容有作文题目、准考证号填写栏、姓名填写栏以及条形码粘贴条</a:t>
            </a:r>
            <a:r>
              <a:rPr b="1" lang="zh-CN" sz="1800" spc="-1" strike="noStrike">
                <a:solidFill>
                  <a:srgbClr val="c00000"/>
                </a:solidFill>
                <a:latin typeface="华文中宋"/>
                <a:ea typeface="华文中宋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线形标注 1 13"/>
          <p:cNvSpPr/>
          <p:nvPr/>
        </p:nvSpPr>
        <p:spPr>
          <a:xfrm>
            <a:off x="3780000" y="2060640"/>
            <a:ext cx="4537080" cy="237636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12" descr="C:\Users\Administrator\AppData\Roaming\Tencent\Users\58445695\QQ\WinTemp\RichOle\}VEQPR1E8W6996{3O4U3V{X.jpg"/>
          <p:cNvPicPr/>
          <p:nvPr/>
        </p:nvPicPr>
        <p:blipFill>
          <a:blip r:embed="rId2"/>
          <a:stretch/>
        </p:blipFill>
        <p:spPr>
          <a:xfrm>
            <a:off x="1670040" y="2606760"/>
            <a:ext cx="1262160" cy="642960"/>
          </a:xfrm>
          <a:prstGeom prst="rect">
            <a:avLst/>
          </a:prstGeom>
          <a:ln w="0">
            <a:noFill/>
          </a:ln>
        </p:spPr>
      </p:pic>
      <p:sp>
        <p:nvSpPr>
          <p:cNvPr id="328" name="TextBox 15"/>
          <p:cNvSpPr/>
          <p:nvPr/>
        </p:nvSpPr>
        <p:spPr>
          <a:xfrm>
            <a:off x="3024360" y="4437000"/>
            <a:ext cx="161892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作文题目区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9" name="直接箭头连接符 2"/>
          <p:cNvCxnSpPr/>
          <p:nvPr/>
        </p:nvCxnSpPr>
        <p:spPr>
          <a:xfrm flipV="1">
            <a:off x="2700360" y="1412640"/>
            <a:ext cx="2016720" cy="1080000"/>
          </a:xfrm>
          <a:prstGeom prst="straightConnector1">
            <a:avLst/>
          </a:prstGeom>
          <a:ln cap="rnd" w="38160">
            <a:solidFill>
              <a:srgbClr val="c00000">
                <a:alpha val="60000"/>
              </a:srgbClr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内容占位符 2"/>
          <p:cNvSpPr/>
          <p:nvPr/>
        </p:nvSpPr>
        <p:spPr>
          <a:xfrm>
            <a:off x="250920" y="105264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2f2f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2f2f2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样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f2f2f2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f2f2f2"/>
                </a:solidFill>
                <a:latin typeface="黑体"/>
                <a:ea typeface="黑体"/>
              </a:rPr>
              <a:t>CET4</a:t>
            </a: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为例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4" descr="CET-4-1-2"/>
          <p:cNvPicPr/>
          <p:nvPr/>
        </p:nvPicPr>
        <p:blipFill>
          <a:blip r:embed="rId1"/>
          <a:stretch/>
        </p:blipFill>
        <p:spPr>
          <a:xfrm>
            <a:off x="3564000" y="115920"/>
            <a:ext cx="4734000" cy="65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CET-4-2-1"/>
          <p:cNvPicPr/>
          <p:nvPr/>
        </p:nvPicPr>
        <p:blipFill>
          <a:blip r:embed="rId1"/>
          <a:stretch/>
        </p:blipFill>
        <p:spPr>
          <a:xfrm>
            <a:off x="108000" y="189000"/>
            <a:ext cx="4343400" cy="61196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CET-4-2-2"/>
          <p:cNvPicPr/>
          <p:nvPr/>
        </p:nvPicPr>
        <p:blipFill>
          <a:blip r:embed="rId2"/>
          <a:stretch/>
        </p:blipFill>
        <p:spPr>
          <a:xfrm>
            <a:off x="4608360" y="142920"/>
            <a:ext cx="44658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95280" y="475920"/>
            <a:ext cx="8445600" cy="466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entury Gothic"/>
              </a:rPr>
              <a:t>报送试卷答题卡材料：</a:t>
            </a:r>
            <a:endParaRPr b="0" lang="en-US" sz="40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Gothic"/>
              </a:rPr>
              <a:t>监考员将试卷清理整齐后交考务办公室。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Gothic"/>
              </a:rPr>
              <a:t>交考务工作人员验收试题册、答题卡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entury Gothic"/>
              </a:rPr>
              <a:t>、答题卡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entury Gothic"/>
              </a:rPr>
              <a:t>，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Gothic"/>
              </a:rPr>
              <a:t>准确无误后，监考员方可密封、签字。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Gothic"/>
              </a:rPr>
              <a:t>将密封好的</a:t>
            </a:r>
            <a:r>
              <a:rPr b="1" lang="zh-CN" sz="2800" spc="-1" strike="noStrike">
                <a:solidFill>
                  <a:srgbClr val="c00000"/>
                </a:solidFill>
                <a:latin typeface="Century Gothic"/>
              </a:rPr>
              <a:t>试题册、答题</a:t>
            </a:r>
            <a:r>
              <a:rPr b="1" lang="en-US" sz="2800" spc="-1" strike="noStrike">
                <a:solidFill>
                  <a:srgbClr val="c00000"/>
                </a:solidFill>
                <a:latin typeface="Century Gothic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Century Gothic"/>
              </a:rPr>
              <a:t>、答题</a:t>
            </a:r>
            <a:r>
              <a:rPr b="1" lang="en-US" sz="2800" spc="-1" strike="noStrike">
                <a:solidFill>
                  <a:srgbClr val="c00000"/>
                </a:solidFill>
                <a:latin typeface="Century Gothic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entury Gothic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Century Gothic"/>
              </a:rPr>
              <a:t>考务袋</a:t>
            </a:r>
            <a:r>
              <a:rPr b="1" lang="zh-CN" sz="2800" spc="-1" strike="noStrike">
                <a:solidFill>
                  <a:srgbClr val="000000"/>
                </a:solidFill>
                <a:latin typeface="Century Gothic"/>
              </a:rPr>
              <a:t>交给负责接收的考务工作人员。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经考务负责人清点核查无误后方可离开</a:t>
            </a:r>
            <a:r>
              <a:rPr b="1" lang="zh-CN" sz="2800" spc="-1" strike="noStrike">
                <a:solidFill>
                  <a:srgbClr val="000000"/>
                </a:solidFill>
                <a:latin typeface="Century Gothic"/>
              </a:rPr>
              <a:t>。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4"/>
          <p:cNvSpPr txBox="1"/>
          <p:nvPr/>
        </p:nvSpPr>
        <p:spPr>
          <a:xfrm>
            <a:off x="1042920" y="1484280"/>
            <a:ext cx="7201080" cy="42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谢谢各位监考员！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辛苦了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pic>
        <p:nvPicPr>
          <p:cNvPr id="336" name="Picture 6" descr="12"/>
          <p:cNvPicPr/>
          <p:nvPr/>
        </p:nvPicPr>
        <p:blipFill>
          <a:blip r:embed="rId1"/>
          <a:stretch/>
        </p:blipFill>
        <p:spPr>
          <a:xfrm>
            <a:off x="7132680" y="2708280"/>
            <a:ext cx="2011320" cy="38257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校徽"/>
          <p:cNvPicPr/>
          <p:nvPr/>
        </p:nvPicPr>
        <p:blipFill>
          <a:blip r:embed="rId2"/>
          <a:stretch/>
        </p:blipFill>
        <p:spPr>
          <a:xfrm>
            <a:off x="539640" y="333360"/>
            <a:ext cx="701640" cy="833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南方医科大学（红色立体）"/>
          <p:cNvPicPr/>
          <p:nvPr/>
        </p:nvPicPr>
        <p:blipFill>
          <a:blip r:embed="rId3"/>
          <a:stretch/>
        </p:blipFill>
        <p:spPr>
          <a:xfrm>
            <a:off x="1260360" y="404640"/>
            <a:ext cx="3527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6402240" cy="231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考务人员、巡考人员培训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520" y="4487760"/>
            <a:ext cx="640224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8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547640" y="1125000"/>
            <a:ext cx="6554880" cy="376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50000"/>
              </a:lnSpc>
              <a:spcBef>
                <a:spcPts val="901"/>
              </a:spcBef>
              <a:spcAft>
                <a:spcPts val="60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entury Gothic"/>
              </a:rPr>
              <a:t>具体操作流程</a:t>
            </a:r>
            <a:endParaRPr b="0" lang="en-US" sz="3600" spc="-1" strike="noStrike">
              <a:solidFill>
                <a:srgbClr val="3e5e08"/>
              </a:solidFill>
              <a:latin typeface="Century Gothic"/>
            </a:endParaRPr>
          </a:p>
          <a:p>
            <a:pPr marL="514440" indent="-514440">
              <a:lnSpc>
                <a:spcPct val="150000"/>
              </a:lnSpc>
              <a:spcBef>
                <a:spcPts val="901"/>
              </a:spcBef>
              <a:spcAft>
                <a:spcPts val="60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entury Gothic"/>
              </a:rPr>
              <a:t>特别注意事项</a:t>
            </a:r>
            <a:endParaRPr b="0" lang="en-US" sz="3600" spc="-1" strike="noStrike">
              <a:solidFill>
                <a:srgbClr val="3e5e08"/>
              </a:solidFill>
              <a:latin typeface="Century Gothic"/>
            </a:endParaRPr>
          </a:p>
          <a:p>
            <a:pPr marL="514440" indent="-514440">
              <a:lnSpc>
                <a:spcPct val="150000"/>
              </a:lnSpc>
              <a:spcBef>
                <a:spcPts val="901"/>
              </a:spcBef>
              <a:spcAft>
                <a:spcPts val="60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entury Gothic"/>
              </a:rPr>
              <a:t>考场工作须知</a:t>
            </a:r>
            <a:endParaRPr b="0" lang="en-US" sz="36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533160" y="533520"/>
            <a:ext cx="6554520" cy="52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巡考注意按时间点吹口哨！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entury Gothic"/>
              </a:rPr>
              <a:t>一、试卷分袋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、早上：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到行政楼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楼保密室领试卷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、分试卷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、配合老师领试卷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entury Gothic"/>
              </a:rPr>
              <a:t>二、听力结束后收缺考记录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单，检查缺考记录有没填写到试卷袋的缺考栏中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51912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中宋"/>
              </a:rPr>
              <a:t>三、回收试卷工作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密封：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）试题册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）答题卡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1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）答题卡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2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检查试卷、答题卡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、答题卡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袋上的内容填写（监考老师签名、考场情况（正常））、学校代码）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43" name="AutoShape 4"/>
          <p:cNvSpPr/>
          <p:nvPr/>
        </p:nvSpPr>
        <p:spPr>
          <a:xfrm>
            <a:off x="4211640" y="2637000"/>
            <a:ext cx="360360" cy="1439640"/>
          </a:xfrm>
          <a:custGeom>
            <a:avLst/>
            <a:gdLst>
              <a:gd name="textAreaLeft" fmla="*/ 0 w 360360"/>
              <a:gd name="textAreaRight" fmla="*/ 129960 w 36036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4859280" y="2997360"/>
            <a:ext cx="1079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三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533520" y="533160"/>
            <a:ext cx="7710480" cy="512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entury Gothic"/>
              </a:rPr>
              <a:t>清点考试资料袋：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entury Gothic"/>
              </a:rPr>
              <a:t>、监考证（一个考场一个）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entury Gothic"/>
              </a:rPr>
              <a:t>、签到表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entury Gothic"/>
              </a:rPr>
              <a:t>、缺考记录表（考场登记、监考老师）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entury Gothic"/>
              </a:rPr>
              <a:t>、笔（黑签字笔，铅笔）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entury Gothic"/>
              </a:rPr>
              <a:t>、胶棒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entury Gothic"/>
              </a:rPr>
              <a:t>打包：（四六级）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、试卷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袋一捆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、答题卡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1-20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袋一捆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、答题卡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2-20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袋一捆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、零散的捆一捆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533520" y="533520"/>
            <a:ext cx="7494480" cy="519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收集整理四级考试资料袋（上午）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、签到表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、缺考记录（考场登记、监考老师）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收集整理六级考试资料袋（下午）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、签到表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、缺考记录（考场登记、监考老师）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5" descr="14"/>
          <p:cNvPicPr/>
          <p:nvPr/>
        </p:nvPicPr>
        <p:blipFill>
          <a:blip r:embed="rId1"/>
          <a:stretch/>
        </p:blipFill>
        <p:spPr>
          <a:xfrm>
            <a:off x="5256360" y="0"/>
            <a:ext cx="3887640" cy="388764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51" name="WordArt 4"/>
          <p:cNvSpPr txBox="1"/>
          <p:nvPr/>
        </p:nvSpPr>
        <p:spPr>
          <a:xfrm>
            <a:off x="1692360" y="2997360"/>
            <a:ext cx="53276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谢谢各位同学！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352" name="Picture 6" descr="校徽"/>
          <p:cNvPicPr/>
          <p:nvPr/>
        </p:nvPicPr>
        <p:blipFill>
          <a:blip r:embed="rId2"/>
          <a:stretch/>
        </p:blipFill>
        <p:spPr>
          <a:xfrm>
            <a:off x="539640" y="333360"/>
            <a:ext cx="701640" cy="8334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南方医科大学（红色立体）"/>
          <p:cNvPicPr/>
          <p:nvPr/>
        </p:nvPicPr>
        <p:blipFill>
          <a:blip r:embed="rId3"/>
          <a:stretch/>
        </p:blipFill>
        <p:spPr>
          <a:xfrm>
            <a:off x="1260360" y="404640"/>
            <a:ext cx="3527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61549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Century Gothic"/>
              </a:rPr>
              <a:t>一、具体操作流程学习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533520" y="2205000"/>
          <a:ext cx="8229600" cy="3232080"/>
        </p:xfrm>
        <a:graphic>
          <a:graphicData uri="http://schemas.openxmlformats.org/drawingml/2006/table">
            <a:tbl>
              <a:tblPr/>
              <a:tblGrid>
                <a:gridCol w="1785960"/>
                <a:gridCol w="2108160"/>
                <a:gridCol w="4335480"/>
              </a:tblGrid>
              <a:tr h="548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考试种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d811f"/>
                      </a:solidFill>
                    </a:lnL>
                    <a:lnR w="5760">
                      <a:solidFill>
                        <a:srgbClr val="cd811f"/>
                      </a:solidFill>
                    </a:lnR>
                    <a:lnT w="5760">
                      <a:solidFill>
                        <a:srgbClr val="cd811f"/>
                      </a:solidFill>
                    </a:lnT>
                    <a:lnB w="5760">
                      <a:solidFill>
                        <a:srgbClr val="cd811f"/>
                      </a:solidFill>
                    </a:lnB>
                    <a:solidFill>
                      <a:srgbClr val="f6ed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考试时间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d811f"/>
                      </a:solidFill>
                    </a:lnL>
                    <a:lnR w="5760">
                      <a:solidFill>
                        <a:srgbClr val="cd811f"/>
                      </a:solidFill>
                    </a:lnR>
                    <a:lnT w="5760">
                      <a:solidFill>
                        <a:srgbClr val="cd811f"/>
                      </a:solidFill>
                    </a:lnT>
                    <a:lnB w="5760">
                      <a:solidFill>
                        <a:srgbClr val="cd811f"/>
                      </a:solidFill>
                    </a:lnB>
                    <a:solidFill>
                      <a:srgbClr val="f6ed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发卷收卷时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d811f"/>
                      </a:solidFill>
                    </a:lnL>
                    <a:lnR w="5760">
                      <a:solidFill>
                        <a:srgbClr val="cd811f"/>
                      </a:solidFill>
                    </a:lnR>
                    <a:lnT w="5760">
                      <a:solidFill>
                        <a:srgbClr val="cd811f"/>
                      </a:solidFill>
                    </a:lnT>
                    <a:lnB w="5760">
                      <a:solidFill>
                        <a:srgbClr val="cd811f"/>
                      </a:solidFill>
                    </a:lnB>
                    <a:solidFill>
                      <a:srgbClr val="f6ede7"/>
                    </a:solidFill>
                  </a:tcPr>
                </a:tc>
              </a:tr>
              <a:tr h="1341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英语四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d811f"/>
                      </a:solidFill>
                    </a:lnL>
                    <a:lnR w="5760">
                      <a:solidFill>
                        <a:srgbClr val="cd811f"/>
                      </a:solidFill>
                    </a:lnR>
                    <a:lnT w="5760">
                      <a:solidFill>
                        <a:srgbClr val="cd811f"/>
                      </a:solidFill>
                    </a:lnT>
                    <a:lnB w="5760">
                      <a:solidFill>
                        <a:srgbClr val="cd811f"/>
                      </a:solidFill>
                    </a:lnB>
                    <a:solidFill>
                      <a:srgbClr val="f6ed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9:00—11: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d811f"/>
                      </a:solidFill>
                    </a:lnL>
                    <a:lnR w="5760">
                      <a:solidFill>
                        <a:srgbClr val="cd811f"/>
                      </a:solidFill>
                    </a:lnR>
                    <a:lnT w="5760">
                      <a:solidFill>
                        <a:srgbClr val="cd811f"/>
                      </a:solidFill>
                    </a:lnT>
                    <a:lnB w="5760">
                      <a:solidFill>
                        <a:srgbClr val="cd811f"/>
                      </a:solidFill>
                    </a:lnB>
                    <a:solidFill>
                      <a:srgbClr val="f6ed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09:0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，发答题卡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、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和试题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10: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，听力结束后收答题卡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11:2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，收试题册及答题卡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d811f"/>
                      </a:solidFill>
                    </a:lnL>
                    <a:lnR w="5760">
                      <a:solidFill>
                        <a:srgbClr val="cd811f"/>
                      </a:solidFill>
                    </a:lnR>
                    <a:lnT w="5760">
                      <a:solidFill>
                        <a:srgbClr val="cd811f"/>
                      </a:solidFill>
                    </a:lnT>
                    <a:lnB w="5760">
                      <a:solidFill>
                        <a:srgbClr val="cd811f"/>
                      </a:solidFill>
                    </a:lnB>
                    <a:solidFill>
                      <a:srgbClr val="f6ede7"/>
                    </a:solidFill>
                  </a:tcPr>
                </a:tc>
              </a:tr>
              <a:tr h="1341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英语六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d811f"/>
                      </a:solidFill>
                    </a:lnL>
                    <a:lnR w="5760">
                      <a:solidFill>
                        <a:srgbClr val="cd811f"/>
                      </a:solidFill>
                    </a:lnR>
                    <a:lnT w="5760">
                      <a:solidFill>
                        <a:srgbClr val="cd811f"/>
                      </a:solidFill>
                    </a:lnT>
                    <a:lnB w="5760">
                      <a:solidFill>
                        <a:srgbClr val="cd811f"/>
                      </a:solidFill>
                    </a:lnB>
                    <a:solidFill>
                      <a:srgbClr val="f6ed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15:00—17: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d811f"/>
                      </a:solidFill>
                    </a:lnL>
                    <a:lnR w="5760">
                      <a:solidFill>
                        <a:srgbClr val="cd811f"/>
                      </a:solidFill>
                    </a:lnR>
                    <a:lnT w="5760">
                      <a:solidFill>
                        <a:srgbClr val="cd811f"/>
                      </a:solidFill>
                    </a:lnT>
                    <a:lnB w="5760">
                      <a:solidFill>
                        <a:srgbClr val="cd811f"/>
                      </a:solidFill>
                    </a:lnB>
                    <a:solidFill>
                      <a:srgbClr val="f6ed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15:0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，发答题卡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、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和试题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16: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，听力结束后收答题卡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17:2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，收试题册及答题卡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d811f"/>
                      </a:solidFill>
                    </a:lnL>
                    <a:lnR w="5760">
                      <a:solidFill>
                        <a:srgbClr val="cd811f"/>
                      </a:solidFill>
                    </a:lnR>
                    <a:lnT w="5760">
                      <a:solidFill>
                        <a:srgbClr val="cd811f"/>
                      </a:solidFill>
                    </a:lnT>
                    <a:lnB w="5760">
                      <a:solidFill>
                        <a:srgbClr val="cd811f"/>
                      </a:solidFill>
                    </a:lnB>
                    <a:solidFill>
                      <a:srgbClr val="f6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539640" y="620280"/>
            <a:ext cx="787104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顺德校区：</a:t>
            </a:r>
            <a:endParaRPr b="0" lang="en-US" sz="32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0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，在办公楼前坐班车，由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**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带队。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教学楼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栋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10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教室集中领取考试试卷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，德月桥乘坐班车回校本部。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校本部：</a:t>
            </a:r>
            <a:endParaRPr b="0" lang="en-US" sz="32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四级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: 08:0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到  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40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教室，集中领取考试试卷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六级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: 14:0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到  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40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教室，集中领取考试试卷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6836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algn="ctr">
              <a:lnSpc>
                <a:spcPct val="11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entury Gothic"/>
              </a:rPr>
              <a:t>二、特别注意事项</a:t>
            </a:r>
            <a:endParaRPr b="0" lang="en-US" sz="3600" spc="-1" strike="noStrike">
              <a:solidFill>
                <a:srgbClr val="3e5e08"/>
              </a:solidFill>
              <a:latin typeface="Century Gothic"/>
            </a:endParaRPr>
          </a:p>
          <a:p>
            <a:pPr marL="285840" algn="ctr">
              <a:lnSpc>
                <a:spcPct val="11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监考员手机一定要关机，绝对不能有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吸烟闲聊、阅读书报、离场串岗、睡觉等不认真现象。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学生不得携带手机等通讯工具。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监考老师不能自行调换考场。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幼圆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听力部分考试时，考生无请求，监考员不要走动。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答题卡、试题册一个个发到考生手上，不能让考生传递。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68360" y="907920"/>
            <a:ext cx="8136000" cy="53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800280" indent="-5144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Century Gothic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取答题卡和试卷时，一定注意其中的封条，并保存好。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800280" indent="-5144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发答题卡和试卷前一定要清点数量。数量不对，应立即报考务办公室，不能私自调整。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800280" indent="-5144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作答前，务必提醒考生检查答题卡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的印刷质量，考试中途不再更换。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800280" indent="-5144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考生答题卡写错时，可以更改，划掉或者用胶檫檫掉，</a:t>
            </a:r>
            <a:r>
              <a:rPr b="1" lang="zh-CN" sz="2400" spc="-1" strike="noStrike" u="sng">
                <a:solidFill>
                  <a:srgbClr val="c00000"/>
                </a:solidFill>
                <a:uFillTx/>
                <a:latin typeface="Century Gothic"/>
              </a:rPr>
              <a:t>绝对不允许擅自用缺考考生的答题卡替代，否则有作弊的嫌疑。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800280" indent="-5144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幼圆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要求考生在试题册背面相应的位置上填写姓名和身份证号。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94920" y="620280"/>
            <a:ext cx="837396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幼圆"/>
              <a:buAutoNum type="arabicPeriod" startAt="11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缺考考生只需在答题卡后两位用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</a:rPr>
              <a:t>2B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铅笔填写准考证的后两位号码，不需要粘贴条形码到答题卡上。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幼圆"/>
              <a:buAutoNum type="arabicPeriod" startAt="11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严禁考生带走试卷。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entury Gothic"/>
              <a:buAutoNum type="arabicPeriod" startAt="11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答题卡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和答题卡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不能混装，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幼圆"/>
              <a:buAutoNum type="arabicPeriod" startAt="11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考生若是“使用通讯设备”违规的，需说明实际情况。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幼圆"/>
              <a:buAutoNum type="arabicPeriod" startAt="11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利用手机短信作弊取证时需将短信内容登记，让考生签名确认。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9640" y="62028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entury Gothic"/>
              </a:rPr>
              <a:t>这</a:t>
            </a:r>
            <a:r>
              <a:rPr b="1" lang="en-US" sz="2800" spc="-1" strike="noStrike">
                <a:solidFill>
                  <a:srgbClr val="c00000"/>
                </a:solidFill>
                <a:latin typeface="Century Gothic"/>
              </a:rPr>
              <a:t>13</a:t>
            </a:r>
            <a:r>
              <a:rPr b="1" lang="zh-CN" sz="2800" spc="-1" strike="noStrike">
                <a:solidFill>
                  <a:srgbClr val="c00000"/>
                </a:solidFill>
                <a:latin typeface="Century Gothic"/>
              </a:rPr>
              <a:t>条希望大家牢记，把工作认真做好。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entury Gothic"/>
              </a:rPr>
              <a:t>本部咨询，胡老师电话：</a:t>
            </a:r>
            <a:r>
              <a:rPr b="1" lang="en-US" sz="2800" spc="-1" strike="noStrike">
                <a:solidFill>
                  <a:srgbClr val="c00000"/>
                </a:solidFill>
                <a:latin typeface="Century Gothic"/>
              </a:rPr>
              <a:t>13016010893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entury Gothic"/>
              </a:rPr>
              <a:t>顺德咨询，石老师电话：</a:t>
            </a:r>
            <a:r>
              <a:rPr b="1" lang="en-US" sz="2800" spc="-1" strike="noStrike">
                <a:solidFill>
                  <a:srgbClr val="c00000"/>
                </a:solidFill>
                <a:latin typeface="Century Gothic"/>
              </a:rPr>
              <a:t>15992477810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entury Gothic"/>
              </a:rPr>
              <a:t>                  </a:t>
            </a:r>
            <a:r>
              <a:rPr b="1" lang="zh-CN" sz="2800" spc="-1" strike="noStrike">
                <a:solidFill>
                  <a:srgbClr val="c00000"/>
                </a:solidFill>
                <a:latin typeface="Century Gothic"/>
              </a:rPr>
              <a:t>张老师电话：</a:t>
            </a:r>
            <a:r>
              <a:rPr b="1" lang="en-US" sz="2800" spc="-1" strike="noStrike">
                <a:solidFill>
                  <a:srgbClr val="c00000"/>
                </a:solidFill>
                <a:latin typeface="Century Gothic"/>
              </a:rPr>
              <a:t>13632102801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9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entury Gothic"/>
              </a:rPr>
              <a:t>三、考场工作须知</a:t>
            </a:r>
            <a:endParaRPr b="0" lang="en-US" sz="36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8T09:35:31Z</dcterms:created>
  <dc:creator>番茄花园</dc:creator>
  <dc:description/>
  <dc:language>en-US</dc:language>
  <cp:lastModifiedBy>张春辉</cp:lastModifiedBy>
  <dcterms:modified xsi:type="dcterms:W3CDTF">2014-06-09T16:47:01Z</dcterms:modified>
  <cp:revision>256</cp:revision>
  <dc:subject/>
  <dc:title>幻灯片 1</dc:title>
</cp:coreProperties>
</file>