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E45B-058F-4DCC-8D1D-D7B610B1E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38A2-1377-44F8-BAB2-EDB18434D2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面我们来看一下多题多卷这部分的内容。“多题多卷”模式即在同一考场内使用多套题目不同的试卷，试卷类型则通过试题册背面的条形码来区分，考试时有考生将条形码粘贴至答题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上的相应位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试卷类型与座位号无关，发到考生手中也是随机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根据这一变化，考务工作也将相应作出一些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BBF4-934A-4099-964A-A798907D4030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DA2-CFD3-4673-9B8F-A3962E6C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8B9-3221-4F8D-8371-FEB8529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DA75-75E3-4759-A019-BCEE211E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CE7-7AD4-410F-9166-5F3F4EE4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B989-CA90-46B1-9278-CA522695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C517-D65A-492D-8926-B82BF35F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952D-11AE-4C0E-BCF7-67FF2383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01D0-209D-4399-B3A8-3D0FE011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AF12-FCE6-4E33-88DD-D29F106A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8841-FB7D-487C-AF63-C619B252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B9D5-33AA-4227-B361-9EB0985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483-9909-47FC-AA1B-44C94BA4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DCEB-2F7E-493D-A2F7-0F762BCF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F772-EC4F-47D3-B57B-47F6939E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D09A-0EF5-4DC4-8157-29E8AF7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9A0-148F-4BEE-965A-9BFCDE5A7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8D8F-1491-45CC-8B01-B77B0B53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CCAA3-3BC7-40C6-8BDE-BF824B61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2940-8F35-4F4F-94B8-A2A386B54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0F182-45C6-4275-92E8-471192D8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0A435-7541-4A77-89A3-F2E5B657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5380D-4CFE-4AF5-AB6F-F5017D8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EB4-3C60-44D2-9BCA-48FE83BF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207F-6005-4EE8-9DA7-7A625082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531B-01FE-4316-A7F3-8D17C787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A63C-9C8A-44B2-8030-0B0794F4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A7C9A-2EE9-4472-9A97-44676257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12B12-EFE1-4172-8F69-EEC4A511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4045-492F-43A1-A604-B9999782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8691-8B2B-491A-9ABE-916BBF920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648A-A415-48CE-8AF4-36EE53D3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36F16-EF12-41AC-BE9D-C8D690AF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02B97-B085-469D-A69D-BFC7819A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AD5-A223-4367-BB22-6FD75DD3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24DF3-7D87-4032-95BF-2ED73872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112B-1AC7-473D-BFF2-2BD684A6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A8A2-0702-428A-9FDA-8E292300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34FFE-E5FA-44BE-94B6-6B3F118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A61EC-5D84-4CB2-9D3D-958AC250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8F3E2-BE08-4C49-B9BE-A0056EB7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DCF7E-59BE-44A6-AF9E-2603F35C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C5A91-916B-4D05-BD5E-1678E618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18108-54BC-4FC9-9875-F69BBB9F4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11DBC-3658-4A2A-95A3-B0852476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D6C-515F-44F3-B62F-BA325BE8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21D9F-5912-4872-AFB6-1C177052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B2DD3-1344-4CCB-8042-A7E7FE00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FE61-2F25-4100-B907-05C04B2E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956F-E83D-40DF-A340-CE13BADF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7884D-635C-4A34-88F1-3CD0000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8BB94-8AE5-49E5-9B8F-B69F365C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A1A25-FDE5-4915-B256-0743AF6B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D7958-2424-4BF3-B5A0-6B803E3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52295-6A84-4127-BD02-6872AFB5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ACC0-93A2-4BF3-ADD9-CC9EC70FF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2451-DF03-4F6E-9C36-D3940102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E20F6-42EB-476B-BE4A-7ACF3CF14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6B924-53E1-4FA7-A97B-75BD6D69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4AF8F-1E6D-40B7-8865-7AF21277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1BE28-5998-4A15-8090-17B02424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7E7D7-9B5C-4612-A1FA-2E3BC1BD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58C26-7A85-42A8-8436-497808D2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62DE0-99C9-41A6-9ABD-2C52DCB0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E2D96-F657-47A2-A94D-8F24A475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08695-9FE4-43E2-9088-FF6A263D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E5124-AA3B-415B-B004-EB86ADA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E8EF-9E6E-4DD7-A5EA-664EF938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F474-181D-4336-8068-765CFB42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524C-1D14-4F2D-81BE-D3A901E9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2AE80-A3AD-437A-A1F4-A4C8DC43A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5CF-EB30-4295-AB4D-AE0DD438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2B17-7286-4883-AD68-B807168B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6101-F4B2-4CF7-910C-E1B8882002B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5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56EB-7E15-48C3-9D31-12D8EE784642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0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0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9D43-550C-4996-8C47-AF143C27BCD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157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90CE-8048-46EF-BF3B-4D8EABAAAE51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0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51DC-74C6-4F95-9B18-F2BD599DD8C7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e447"/>
            </a:gs>
            <a:gs pos="100000">
              <a:srgbClr val="4c78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253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e5e08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293f0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B70-9189-4A86-829F-FF94542F6068}" type="slidenum">
              <a:rPr b="0" lang="en-US" sz="2800" spc="-1" strike="noStrike">
                <a:solidFill>
                  <a:srgbClr val="293f06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900" spc="-1" strike="noStrike">
                <a:solidFill>
                  <a:srgbClr val="c00000"/>
                </a:solidFill>
                <a:latin typeface="黑体"/>
                <a:ea typeface="黑体"/>
              </a:rPr>
              <a:t>全国大学英语四、六级考试监考、巡考人员培训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19120" y="1341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一）领取试卷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二）贴桌贴（右上角）和门贴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entury Gothic"/>
              </a:rPr>
              <a:t>（三）板书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533160" y="533520"/>
            <a:ext cx="6554520" cy="548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上午黑板要求书写：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考点：南方医科大学    学校代码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4045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校区代码：本部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0    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顺德校区代码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考试名称和级别（四级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考试流程：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9:00-11:25 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0:10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1:25   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试题册及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负责各楼层的巡考员互相对时间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71280" y="476280"/>
            <a:ext cx="655452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下午黑板要求书写：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考点：南方医科大学    学校代码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44045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校区代码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0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顺德校区代码）：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、考试名称和级别（六级）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、考试流程：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5:00-17:25 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6:10   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收答题卡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17:20   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收试题册及答题卡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负责各楼层的巡考员互相对时间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（四）强调：听力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注意听力的播放时间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0:00-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6:00-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4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CET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听力时间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分钟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播放听力的老师请在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08:45-09:0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播放试听听力， 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4:45-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各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5:00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播放试听听力。各教室监考老师提醒同学进行试听。（调频频道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67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，如果考生觉得不清楚，可以使用耳机上的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加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减</a:t>
            </a:r>
            <a:r>
              <a:rPr b="1" lang="zh-CN" sz="2000" spc="-1" strike="noStrike">
                <a:solidFill>
                  <a:srgbClr val="000000"/>
                </a:solidFill>
                <a:latin typeface="Century Gothic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号微调一下就可以了）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监考员提醒考生考试期间不允许上厕所，在考试期间如要上厕所考生不能继续回到考场，上厕所的考生由巡考员带到考务办公室（校本部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教室、顺德校区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栋</a:t>
            </a:r>
            <a:r>
              <a:rPr b="1" lang="en-US" sz="2000" spc="-1" strike="noStrike">
                <a:solidFill>
                  <a:srgbClr val="000000"/>
                </a:solidFill>
                <a:latin typeface="华文中宋"/>
              </a:rPr>
              <a:t>101</a:t>
            </a:r>
            <a:r>
              <a:rPr b="1" lang="zh-CN" sz="2000" spc="-1" strike="noStrike">
                <a:solidFill>
                  <a:srgbClr val="000000"/>
                </a:solidFill>
                <a:latin typeface="华文中宋"/>
              </a:rPr>
              <a:t>教室）休息，直到考试结束后方能离开考务办公室。</a:t>
            </a: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25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CET-4-1-1"/>
          <p:cNvPicPr/>
          <p:nvPr/>
        </p:nvPicPr>
        <p:blipFill>
          <a:blip r:embed="rId1"/>
          <a:stretch/>
        </p:blipFill>
        <p:spPr>
          <a:xfrm>
            <a:off x="3357720" y="-100080"/>
            <a:ext cx="4743360" cy="67438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2"/>
          <p:cNvSpPr/>
          <p:nvPr/>
        </p:nvSpPr>
        <p:spPr>
          <a:xfrm>
            <a:off x="324000" y="189000"/>
            <a:ext cx="77770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9e257"/>
                </a:solidFill>
                <a:latin typeface="Tahoma"/>
                <a:ea typeface="黑体"/>
              </a:rPr>
              <a:t>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内容占位符 2"/>
          <p:cNvSpPr/>
          <p:nvPr/>
        </p:nvSpPr>
        <p:spPr>
          <a:xfrm>
            <a:off x="0" y="260280"/>
            <a:ext cx="2274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293f06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华文中宋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c00000"/>
                </a:solidFill>
                <a:latin typeface="华文中宋"/>
                <a:ea typeface="华文中宋"/>
              </a:rPr>
              <a:t>试题册背面内容有作文题目、准考证号填写栏、姓名填写栏以及条形码粘贴条</a:t>
            </a:r>
            <a:r>
              <a:rPr b="1" lang="zh-CN" sz="1800" spc="-1" strike="noStrike">
                <a:solidFill>
                  <a:srgbClr val="c00000"/>
                </a:solidFill>
                <a:latin typeface="华文中宋"/>
                <a:ea typeface="华文中宋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线形标注 1 13"/>
          <p:cNvSpPr/>
          <p:nvPr/>
        </p:nvSpPr>
        <p:spPr>
          <a:xfrm>
            <a:off x="3780000" y="2060640"/>
            <a:ext cx="4537080" cy="23763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2" descr="C:\Users\Administrator\AppData\Roaming\Tencent\Users\58445695\QQ\WinTemp\RichOle\}VEQPR1E8W6996{3O4U3V{X.jpg"/>
          <p:cNvPicPr/>
          <p:nvPr/>
        </p:nvPicPr>
        <p:blipFill>
          <a:blip r:embed="rId2"/>
          <a:stretch/>
        </p:blipFill>
        <p:spPr>
          <a:xfrm>
            <a:off x="1670040" y="2606760"/>
            <a:ext cx="1262160" cy="642960"/>
          </a:xfrm>
          <a:prstGeom prst="rect">
            <a:avLst/>
          </a:prstGeom>
          <a:ln w="0">
            <a:noFill/>
          </a:ln>
        </p:spPr>
      </p:pic>
      <p:sp>
        <p:nvSpPr>
          <p:cNvPr id="328" name="TextBox 15"/>
          <p:cNvSpPr/>
          <p:nvPr/>
        </p:nvSpPr>
        <p:spPr>
          <a:xfrm>
            <a:off x="3024360" y="4437000"/>
            <a:ext cx="1618920" cy="36828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Arial"/>
              </a:rPr>
              <a:t>作文题目区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直接箭头连接符 2"/>
          <p:cNvCxnSpPr/>
          <p:nvPr/>
        </p:nvCxnSpPr>
        <p:spPr>
          <a:xfrm flipV="1">
            <a:off x="2700360" y="1412640"/>
            <a:ext cx="2016720" cy="1080000"/>
          </a:xfrm>
          <a:prstGeom prst="straightConnector1">
            <a:avLst/>
          </a:prstGeom>
          <a:ln cap="rnd" w="38160">
            <a:solidFill>
              <a:srgbClr val="c00000">
                <a:alpha val="60000"/>
              </a:srgbClr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内容占位符 2"/>
          <p:cNvSpPr/>
          <p:nvPr/>
        </p:nvSpPr>
        <p:spPr>
          <a:xfrm>
            <a:off x="250920" y="1052640"/>
            <a:ext cx="82296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f2f2f2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答题卡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样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f2f2f2"/>
                </a:solidFill>
                <a:latin typeface="黑体"/>
                <a:ea typeface="黑体"/>
              </a:rPr>
              <a:t>CET4</a:t>
            </a:r>
            <a:r>
              <a:rPr b="1" lang="zh-CN" sz="2400" spc="-1" strike="noStrike">
                <a:solidFill>
                  <a:srgbClr val="f2f2f2"/>
                </a:solidFill>
                <a:latin typeface="黑体"/>
                <a:ea typeface="黑体"/>
              </a:rPr>
              <a:t>为例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CET-4-1-2"/>
          <p:cNvPicPr/>
          <p:nvPr/>
        </p:nvPicPr>
        <p:blipFill>
          <a:blip r:embed="rId1"/>
          <a:stretch/>
        </p:blipFill>
        <p:spPr>
          <a:xfrm>
            <a:off x="3564000" y="115920"/>
            <a:ext cx="4734000" cy="65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CET-4-2-1"/>
          <p:cNvPicPr/>
          <p:nvPr/>
        </p:nvPicPr>
        <p:blipFill>
          <a:blip r:embed="rId1"/>
          <a:stretch/>
        </p:blipFill>
        <p:spPr>
          <a:xfrm>
            <a:off x="108000" y="189000"/>
            <a:ext cx="4343400" cy="6119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CET-4-2-2"/>
          <p:cNvPicPr/>
          <p:nvPr/>
        </p:nvPicPr>
        <p:blipFill>
          <a:blip r:embed="rId2"/>
          <a:stretch/>
        </p:blipFill>
        <p:spPr>
          <a:xfrm>
            <a:off x="4608360" y="142920"/>
            <a:ext cx="44658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95280" y="475920"/>
            <a:ext cx="8445600" cy="466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entury Gothic"/>
              </a:rPr>
              <a:t>报送试卷答题卡材料：</a:t>
            </a:r>
            <a:endParaRPr b="0" lang="en-US" sz="40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监考员将试卷清理整齐后交考务办公室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交考务工作人员验收试题册、答题卡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，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准确无误后，监考员方可密封、签字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将密封好的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试题册、答题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、答题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和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考务袋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交给负责接收的考务工作人员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经考务负责人清点核查无误后方可离开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042920" y="1484280"/>
            <a:ext cx="720108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谢谢各位监考员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辛苦了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336" name="Picture 6" descr="12"/>
          <p:cNvPicPr/>
          <p:nvPr/>
        </p:nvPicPr>
        <p:blipFill>
          <a:blip r:embed="rId1"/>
          <a:stretch/>
        </p:blipFill>
        <p:spPr>
          <a:xfrm>
            <a:off x="7132680" y="2708280"/>
            <a:ext cx="2011320" cy="3825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校徽"/>
          <p:cNvPicPr/>
          <p:nvPr/>
        </p:nvPicPr>
        <p:blipFill>
          <a:blip r:embed="rId2"/>
          <a:stretch/>
        </p:blipFill>
        <p:spPr>
          <a:xfrm>
            <a:off x="539640" y="333360"/>
            <a:ext cx="701640" cy="833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8" descr="南方医科大学（红色立体）"/>
          <p:cNvPicPr/>
          <p:nvPr/>
        </p:nvPicPr>
        <p:blipFill>
          <a:blip r:embed="rId3"/>
          <a:stretch/>
        </p:blipFill>
        <p:spPr>
          <a:xfrm>
            <a:off x="1260360" y="404640"/>
            <a:ext cx="3527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6402240" cy="231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考务人员、巡考人员培训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4487760"/>
            <a:ext cx="6402240" cy="15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1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547640" y="1125000"/>
            <a:ext cx="6554880" cy="37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具体操作流程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特别注意事项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考场工作须知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533160" y="533520"/>
            <a:ext cx="6554520" cy="527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巡考注意按时间点吹口哨！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entury Gothic"/>
              </a:rPr>
              <a:t>一、试卷分袋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早上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到行政楼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楼保密室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配合老师领试卷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Century Gothic"/>
              </a:rPr>
              <a:t>二、听力结束后收缺考记录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单，检查缺考记录有没填写到试卷袋的缺考栏中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5191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中宋"/>
              </a:rPr>
              <a:t>三、回收试卷工作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密封：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试题册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）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检查试卷、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、答题卡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袋上的内容填写（监考老师签名、考场情况（正常））、学校代码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4211640" y="2637000"/>
            <a:ext cx="360360" cy="1439640"/>
          </a:xfrm>
          <a:custGeom>
            <a:avLst/>
            <a:gdLst>
              <a:gd name="textAreaLeft" fmla="*/ 0 w 360360"/>
              <a:gd name="textAreaRight" fmla="*/ 129960 w 360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4859280" y="2997360"/>
            <a:ext cx="107964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三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533520" y="533160"/>
            <a:ext cx="7710480" cy="512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清点考试资料袋：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监考证（一个考场一个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缺考记录表（考场登记、监考老师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笔（黑签字笔，铅笔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entury Gothic"/>
              </a:rPr>
              <a:t>、胶棒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打包：（四六级）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试卷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-2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-20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袋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零散的捆一捆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533520" y="533520"/>
            <a:ext cx="7494480" cy="519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集整理四级考试资料袋（上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缺考记录（考场登记、监考老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收集整理六级考试资料袋（下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签到表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缺考记录（考场登记、监考老师）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5" descr="14"/>
          <p:cNvPicPr/>
          <p:nvPr/>
        </p:nvPicPr>
        <p:blipFill>
          <a:blip r:embed="rId1"/>
          <a:stretch/>
        </p:blipFill>
        <p:spPr>
          <a:xfrm>
            <a:off x="525636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3e5e08"/>
              </a:solidFill>
              <a:latin typeface="Century Gothic"/>
            </a:endParaRPr>
          </a:p>
        </p:txBody>
      </p:sp>
      <p:sp>
        <p:nvSpPr>
          <p:cNvPr id="351" name="WordArt 4"/>
          <p:cNvSpPr txBox="1"/>
          <p:nvPr/>
        </p:nvSpPr>
        <p:spPr>
          <a:xfrm>
            <a:off x="1692360" y="2997360"/>
            <a:ext cx="5327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谢谢各位同学！</a:t>
            </a:r>
            <a:endParaRPr b="0" lang="en-US" sz="2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52" name="Picture 6" descr="校徽"/>
          <p:cNvPicPr/>
          <p:nvPr/>
        </p:nvPicPr>
        <p:blipFill>
          <a:blip r:embed="rId2"/>
          <a:stretch/>
        </p:blipFill>
        <p:spPr>
          <a:xfrm>
            <a:off x="539640" y="333360"/>
            <a:ext cx="701640" cy="8334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南方医科大学（红色立体）"/>
          <p:cNvPicPr/>
          <p:nvPr/>
        </p:nvPicPr>
        <p:blipFill>
          <a:blip r:embed="rId3"/>
          <a:stretch/>
        </p:blipFill>
        <p:spPr>
          <a:xfrm>
            <a:off x="1260360" y="404640"/>
            <a:ext cx="35276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61549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Century Gothic"/>
              </a:rPr>
              <a:t>一、具体操作流程学习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0920" y="1413000"/>
          <a:ext cx="8713800" cy="4987800"/>
        </p:xfrm>
        <a:graphic>
          <a:graphicData uri="http://schemas.openxmlformats.org/drawingml/2006/table">
            <a:tbl>
              <a:tblPr/>
              <a:tblGrid>
                <a:gridCol w="1892160"/>
                <a:gridCol w="2068560"/>
                <a:gridCol w="4753080"/>
              </a:tblGrid>
              <a:tr h="561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考试种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考试时间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发卷收卷时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  <a:tr h="2212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英语四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9:00—11: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09: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发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和试题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   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让考生签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0: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听力结束后收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巡考回收签到表、缺考记录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1: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收试题册及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  <a:tr h="2212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英语六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5:00—17: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5: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发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和试题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         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让考生签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6: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听力结束后收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巡考回收签到表、缺考记录表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17: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，收试题册及答题卡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幼圆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d811f"/>
                      </a:solidFill>
                    </a:lnL>
                    <a:lnR w="5760">
                      <a:solidFill>
                        <a:srgbClr val="cd811f"/>
                      </a:solidFill>
                    </a:lnR>
                    <a:lnT w="5760">
                      <a:solidFill>
                        <a:srgbClr val="cd811f"/>
                      </a:solidFill>
                    </a:lnT>
                    <a:lnB w="5760">
                      <a:solidFill>
                        <a:srgbClr val="cd811f"/>
                      </a:solidFill>
                    </a:lnB>
                    <a:solidFill>
                      <a:srgbClr val="f6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539640" y="620280"/>
            <a:ext cx="787104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顺德校区：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，在办公楼前坐班车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0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学楼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栋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0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，德月桥乘坐班车回校本部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</a:rPr>
              <a:t>校本部：</a:t>
            </a:r>
            <a:endParaRPr b="0" lang="en-US" sz="32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四级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: 08:0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到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，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六级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: 13:40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到  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</a:rPr>
              <a:t>406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</a:rPr>
              <a:t>教室，集中领取考试试卷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algn="ctr">
              <a:lnSpc>
                <a:spcPct val="11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二、特别注意事项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  <a:p>
            <a:pPr marL="285840" algn="ctr">
              <a:lnSpc>
                <a:spcPct val="11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监考员手机一定要关机，绝对不能有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吸烟闲聊、阅读书报、睡觉等不认真现象。不能微信微博四六级任何信息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学生不得携带手机等通讯工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监考老师不能自行调换考场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幼圆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听力部分考试时，考生无请求，监考员不要走动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答题卡、试题册一个个发到考生手上，不能让考生传递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68360" y="620640"/>
            <a:ext cx="8136000" cy="532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9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取答题卡和试卷时，一定注意其中的封条，并保存好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发答题卡和试卷前一定要清点数量。数量不对，应立即报考务办公室，不能私自调整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作答前，务必提醒考生检查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的印刷质量，考试中途不再更换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考生答题卡写错时，可以更改，划掉或者用胶檫檫掉，</a:t>
            </a:r>
            <a:r>
              <a:rPr b="1" lang="zh-CN" sz="2400" spc="-1" strike="noStrike" u="sng">
                <a:solidFill>
                  <a:srgbClr val="c00000"/>
                </a:solidFill>
                <a:uFillTx/>
                <a:latin typeface="Century Gothic"/>
              </a:rPr>
              <a:t>绝对不允许擅自用缺考考生的答题卡替代，否则有作弊的嫌疑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800280" indent="-5144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幼圆"/>
              <a:buAutoNum type="arabicPeriod" startAt="6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要求考生在试题册背面相应的位置上填写姓名和身份证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94920" y="620280"/>
            <a:ext cx="837396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缺考考生只需在答题卡后两位用</a:t>
            </a:r>
            <a:r>
              <a:rPr b="1" lang="en-US" sz="2400" spc="-1" strike="noStrike">
                <a:solidFill>
                  <a:srgbClr val="000000"/>
                </a:solidFill>
                <a:latin typeface="幼圆"/>
              </a:rPr>
              <a:t>2B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铅笔填写准考证的后两位号码，不需要粘贴条形码到答题卡上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考试中间不得离开考场。除非停止考试，带到考务办公室，严禁考生带走试卷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监考老师的耳机不得借给考生用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Century Gothic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和答题卡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entury Gothic"/>
              </a:rPr>
              <a:t>不能混装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考生若是“使用通讯设备”违规的，需说明实际情况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  <a:p>
            <a:pPr marL="457200" indent="-4572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幼圆"/>
              <a:buAutoNum type="arabicPeriod" startAt="11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</a:rPr>
              <a:t>利用手机短信作弊取证时需将短信内容登记，让考生签名确认。</a:t>
            </a:r>
            <a:endParaRPr b="0" lang="en-US" sz="24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755640" y="620640"/>
            <a:ext cx="741672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这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6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条希望大家牢记，把工作认真做好。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本部咨询，胡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3016010893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顺德咨询，石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5992477810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                  </a:t>
            </a: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张老师电话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13632102801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Century Gothic"/>
              </a:rPr>
              <a:t>耳机频道：</a:t>
            </a:r>
            <a:r>
              <a:rPr b="1" lang="en-US" sz="2800" spc="-1" strike="noStrike">
                <a:solidFill>
                  <a:srgbClr val="c00000"/>
                </a:solidFill>
                <a:latin typeface="Century Gothic"/>
              </a:rPr>
              <a:t>67Hz</a:t>
            </a:r>
            <a:endParaRPr b="0" lang="en-US" sz="28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Century Gothic"/>
              </a:rPr>
              <a:t>三、考场工作须知</a:t>
            </a:r>
            <a:endParaRPr b="0" lang="en-US" sz="3600" spc="-1" strike="noStrike">
              <a:solidFill>
                <a:srgbClr val="3e5e08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8T09:35:31Z</dcterms:created>
  <dc:creator>番茄花园</dc:creator>
  <dc:description/>
  <dc:language>en-US</dc:language>
  <cp:lastModifiedBy>张春辉</cp:lastModifiedBy>
  <dcterms:modified xsi:type="dcterms:W3CDTF">2014-06-11T10:38:40Z</dcterms:modified>
  <cp:revision>263</cp:revision>
  <dc:subject/>
  <dc:title>幻灯片 1</dc:title>
</cp:coreProperties>
</file>